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99F-5D10-47AA-BD36-150FAB7E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F1B-1956-4510-AF99-ECD374C1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8730-0DD8-4774-8E4A-147AE850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5543-2784-4505-A789-BA4A3857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1A8-99E5-4AEC-B009-CC7A41DB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7D65-C3D8-4C7A-9C34-C640BF5C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142-F263-494C-AFEE-9CADAEAD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F910-2E02-41CB-A822-B752C6A6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FCC-3B1D-4305-8385-FA894EDA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9A9-D44E-4A6E-85DC-F0F46EEA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8E05-7E26-4D0D-9052-C2CCAD4B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D80C-AAEA-4214-A294-46EAE795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6632-F9E1-470C-9BFA-E7B6DD983BE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A0D8-85E0-4F86-A02A-ABB332F9F1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detionline.com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rsockanc75@rkn.gov.ru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1828080" y="4149720"/>
            <a:ext cx="535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Arial"/>
              </a:rPr>
              <a:t>Управление Роскомнандзора по Забайкальскому кр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Arial"/>
              </a:rPr>
              <a:t>Чита, 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2543040" y="743040"/>
            <a:ext cx="4281480" cy="3209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37FD-3552-4A48-80FD-DD0900879C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371520" y="2066760"/>
            <a:ext cx="762120" cy="67644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343080" y="276120"/>
            <a:ext cx="628560" cy="77148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47840"/>
            <a:ext cx="8229600" cy="41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Не верьте предложениям прочитать чужие СМС или посмотреть 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шокирующее видео». Вам предлагают нечто, нарушающее чье-то лично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якобы под большим секретом. В лучшем случае, захотев прочита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жие СМС можно лишиться денег на счету телефона (если нужно будет направи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МС на короткий номер), в худшем случае на компьютере может поселиться виру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 Фильтруйте электронные письма. Никогда  не отвечайте на сообщения от незнакомцев в Интернете и не отправляйте им СМС. Не открывай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одозрительные письма» и тем более никогда на них не отвечай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5800680" y="2990880"/>
            <a:ext cx="2333520" cy="1942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3CA0-80F8-4091-8DBC-7B1A77222F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714240" y="525600"/>
            <a:ext cx="7772400" cy="4038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D63B-759E-4FAC-8C7C-56FEBA666F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695160" y="257040"/>
            <a:ext cx="7753680" cy="4337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57F1-82CB-405F-9F05-0935D1002A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1085760" y="453960"/>
            <a:ext cx="7115400" cy="4019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61EC-4E1E-46BC-A73F-E0DBBE9C4F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437760"/>
            <a:ext cx="82296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46040" y="416880"/>
            <a:ext cx="822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ы сами выкладываем в Сеть огром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личной информации, не подозрев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 каким бедам это может при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аспространение личной информации  может повлечь за собой неблагоприятные последствия для человека. Всегда нужно помнить, что злоумышленники, имея свободный доступ к информации о социальном статусе, семейном положении, могут воспользоваться ситуацией и совершить неправомерные посягательства на частную жизнь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485640" y="571680"/>
            <a:ext cx="1414440" cy="153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2"/>
          <a:stretch/>
        </p:blipFill>
        <p:spPr>
          <a:xfrm>
            <a:off x="6486480" y="3228840"/>
            <a:ext cx="2252880" cy="145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3"/>
          <a:stretch/>
        </p:blipFill>
        <p:spPr>
          <a:xfrm>
            <a:off x="723960" y="3371760"/>
            <a:ext cx="1562040" cy="1190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5097-188F-4A38-BC8E-36B486E060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1"/>
          <a:stretch/>
        </p:blipFill>
        <p:spPr>
          <a:xfrm>
            <a:off x="3044880" y="561960"/>
            <a:ext cx="5665680" cy="40006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/>
          <p:cNvSpPr/>
          <p:nvPr/>
        </p:nvSpPr>
        <p:spPr>
          <a:xfrm>
            <a:off x="628560" y="596880"/>
            <a:ext cx="3390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Arial"/>
              </a:rPr>
              <a:t>Если Вы, пользуясь интернетом, оказались в непростой ситуации, Вы можете обратиться на Линию помощи «Дети Онлайн» по тел. 8 (800) 25-000-15 (звонок по России бесплатный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detionlin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608040" y="2536920"/>
            <a:ext cx="3630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7375e"/>
                </a:solidFill>
                <a:latin typeface="Arial"/>
              </a:rPr>
              <a:t>Также можете воспользоваться горячей линией по приему сообщений о противоправном контенте в Интернете на сайте Фонда содействия развитию сети Интернет – «Дружественный Рунет» :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ww.friendlyrunet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486E-0549-4790-9018-A910C25C92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425520" y="158760"/>
            <a:ext cx="8515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41520" y="126720"/>
            <a:ext cx="813744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Управление Федеральной службы по надзору в сфере связи, информацио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технологий и массовых коммуникаций по Забайкальскому кр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Times New Roman"/>
              </a:rPr>
              <a:t>                 </a:t>
            </a: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(Управление Роскомнадзора по Забайкальскому краю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Адрес: 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ул. Подгорбунского, д. 9, г. Чита, 6720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Телефон: 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(3022) 21-70-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Факс: </a:t>
            </a:r>
            <a:r>
              <a:rPr b="1" lang="en-US" sz="1600" spc="-1" strike="noStrike">
                <a:solidFill>
                  <a:srgbClr val="1f497d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(3022) 21-70-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f497d"/>
                </a:solidFill>
                <a:latin typeface="Times New Roman"/>
              </a:rPr>
              <a:t>e-mail</a:t>
            </a:r>
            <a:r>
              <a:rPr b="0" lang="de-DE" sz="1600" spc="-1" strike="noStrike">
                <a:solidFill>
                  <a:srgbClr val="1f497d"/>
                </a:solidFill>
                <a:latin typeface="Times New Roman"/>
              </a:rPr>
              <a:t>:            </a:t>
            </a:r>
            <a:r>
              <a:rPr b="0" lang="de-DE" sz="1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rsockanc75@rkn.gov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Адрес сайта: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http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://75.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rkn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gov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1f497d"/>
                </a:solidFill>
                <a:latin typeface="Times New Roman"/>
              </a:rPr>
              <a:t>ru</a:t>
            </a:r>
            <a:r>
              <a:rPr b="1" lang="en-US" sz="1600" spc="-1" strike="noStrike">
                <a:solidFill>
                  <a:srgbClr val="1f497d"/>
                </a:solidFill>
                <a:latin typeface="Times New Roman"/>
              </a:rPr>
              <a:t>                    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Руководитель – 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Исакин Денис Викторови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Отдел </a:t>
            </a: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по защите прав субъектов персональных данных, надзора в сфере массовых коммуникаций и информационных технологий – 21-70-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</a:rPr>
              <a:t>Время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Пн. – чт.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08.00 – 17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Пт.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08.00 – 15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Перерыв на обед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12.00 – 12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Сб., вс.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1f497d"/>
                </a:solidFill>
                <a:latin typeface="Times New Roman"/>
              </a:rPr>
              <a:t>выход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9520" y="244080"/>
            <a:ext cx="822960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4" name="Picture 4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1790640" y="1924200"/>
            <a:ext cx="5824440" cy="2342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760680" y="1012680"/>
            <a:ext cx="60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B493-9F9E-4F4B-8150-BD4D1FAC7D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37920"/>
            <a:ext cx="8229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В нём есть игры и соцсети, 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Фильмы, почта, курс валют. 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Есть все новости планеты, </a:t>
            </a:r>
            <a:br>
              <a:rPr sz="1600"/>
            </a:b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В нём танцуют и пою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256200" y="1867320"/>
            <a:ext cx="2428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Он всех нас объединяет, 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Обо всём на свете знает, 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Он кино тебе покажет, 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Обо всём тебе расскажет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534200" y="3270240"/>
            <a:ext cx="250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Сетевая паутина 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Оплела весь белый свет. 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е пройти детишкам мимо. </a:t>
            </a:r>
            <a:br>
              <a:rPr sz="1400"/>
            </a:b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Что же это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457200" y="1981080"/>
            <a:ext cx="2300400" cy="2262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2"/>
          <a:stretch/>
        </p:blipFill>
        <p:spPr>
          <a:xfrm>
            <a:off x="5924520" y="209520"/>
            <a:ext cx="2857680" cy="2666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FD9F-EB00-4F5C-A7AB-A1F141361B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95200"/>
            <a:ext cx="822960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нет – это безграничный мир информации, здесь ты найдешь много интересного и полезного для учебы. В интернете можно общаться со знакомыми и даже заводить новых друз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971640" y="1247760"/>
            <a:ext cx="7343640" cy="3257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B645-0328-45A3-91E3-F4DC51A4BA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715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новные угрозы безопасности в Интерн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Вирусы и вредоносные программы (черви, трояны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санкционированный обмен музыкой, видео и другими файл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ет быть незаконны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овлечь загрузку вредоносных програм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Грубияны и хулиганы (киберхулиганы, тролли, провокаторы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рослые и дети могут использовать интернет чтобы изводить или запугивать других людей (Кибербуллинг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6286680" y="1324080"/>
            <a:ext cx="2000160" cy="1552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DB11-F90B-423B-AA6E-DE0D2B4D16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2840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Хищники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 люди используют Интернет для того, чтобы заманить людей на личную встреч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Вторжение в частную жизн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олняя различные формы в Интернете, дети могут остави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фиденциальные (личные) сведения о себе или своей семь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Опасный Контент (информация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нтернете можно столкнуться с запрещенной для распростран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9" descr="ÐÐ°ÑÑÐ¸Ð½ÐºÐ¸ Ð¿Ð¾ Ð·Ð°Ð¿ÑÐ¾ÑÑ Ð¿ÐµÑÑÐ¾Ð½Ð°Ð»ÑÐ½ÑÐµ Ð´Ð°Ð½Ð½ÑÐµ Ð² ÑÐµÑÐ¸ ÐÐ½ÑÐµÑÐ½ÐµÑ ÐºÐ°ÑÑÐ¸Ð½ÐºÐ¸"/>
          <p:cNvPicPr/>
          <p:nvPr/>
        </p:nvPicPr>
        <p:blipFill>
          <a:blip r:embed="rId1"/>
          <a:stretch/>
        </p:blipFill>
        <p:spPr>
          <a:xfrm>
            <a:off x="6219720" y="1571760"/>
            <a:ext cx="2205000" cy="1590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8B15-B437-4E84-89CD-F6DF056B52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6"/>
          <p:cNvSpPr/>
          <p:nvPr/>
        </p:nvSpPr>
        <p:spPr>
          <a:xfrm>
            <a:off x="142920" y="723960"/>
            <a:ext cx="657360" cy="65700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>
            <a:off x="123840" y="1724040"/>
            <a:ext cx="714240" cy="69516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0" y="3048120"/>
            <a:ext cx="819000" cy="78084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76120" y="466560"/>
            <a:ext cx="8229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Правила безопасности в Интернет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сегда спрашивайте взрослых о незнакомых и непонятных вещах, которые вы встречаете в Интернете: вы не знаете, какой пункт выбрать, на какую кнопку нажать, как закрыть программу или окно.  Взрослые расскажут вам, как поступить, что можно делать, а что н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. Чтобы не сталкиваться с неприятной информацией в Интернете, установите систе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ьтрации, или попросите сделать это взрослых. Система фильтрации  защитит о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тери денег и кражи паролей, а также будет блокировать большую часть рекламы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скоряя загрузку страниц в Интернет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3. Не скачивайте и не открывайте неизвестные Ва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ли присланные незнакомцами файлы из Интернет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тобы избежать заражения компьютера вирусом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становите на него специальную программу – антивирус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5952960" y="2943360"/>
            <a:ext cx="2409840" cy="1466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79E9-3672-48D8-A336-087F25F7E6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266760" y="190440"/>
            <a:ext cx="695160" cy="91440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228600" y="2400480"/>
            <a:ext cx="523800" cy="91440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14280" y="418680"/>
            <a:ext cx="82296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Если вы регистрируетесь на сайте, в социальной сети или электронной почте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думайте сложный пароль, состоящий из цифр, больших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аленьких букв и знаков. Чем сложнее пароль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м сложнее взломать ваш аккаунт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ните, что ваш пароль можете знать только вы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ому не сообщайте свои логины и пароли и н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кладывайте их в Интернете – относитесь к ним также бережно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и к ключам от квартир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Если хотите скачать картинку или мелодию, но вас просят отправить СМС – не спешите! Сначала проверьте этот номер в Интернете – безопасно ли отправлять на него СМС и не обманут ли вас. Сделать это можно на специальном сайт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МС на короткие номера могут стоить несколько сотен руб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ÐÐ°ÑÑÐ¸Ð½ÐºÐ¸ Ð¿Ð¾ Ð·Ð°Ð¿ÑÐ¾ÑÑ Ð¿Ð°ÑÐ¾Ð»Ð¸ Ð¸ Ð»Ð¾Ð³Ð¸Ð½Ñ ÐºÐ°ÑÑÐ¸Ð½ÐºÐ¸"/>
          <p:cNvPicPr/>
          <p:nvPr/>
        </p:nvPicPr>
        <p:blipFill>
          <a:blip r:embed="rId1"/>
          <a:stretch/>
        </p:blipFill>
        <p:spPr>
          <a:xfrm>
            <a:off x="6105600" y="857160"/>
            <a:ext cx="2581200" cy="1524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0392-AF1B-4137-A162-5FAD09F29B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28600" y="219240"/>
            <a:ext cx="914400" cy="91440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715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 Не встречайтесь без взрослых с людьми из Интернета вживу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Интернете многие люди рассказывают о себе неправд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мните, что под маской вашего ровесника может скрываться взрослый чело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преступными намерения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ÐÐ°ÑÑÐ¸Ð½ÐºÐ¸ Ð¿Ð¾ Ð·Ð°Ð¿ÑÐ¾ÑÑ ÑÑÐ¸ÑÐ¸ Ð´Ð»Ñ Ð´ÐµÑÐµÐ¹ Ð¿ÑÐ¾ Ð¸Ð½ÑÐµÑÐ½ÐµÑ"/>
          <p:cNvPicPr/>
          <p:nvPr/>
        </p:nvPicPr>
        <p:blipFill>
          <a:blip r:embed="rId1"/>
          <a:stretch/>
        </p:blipFill>
        <p:spPr>
          <a:xfrm>
            <a:off x="4038480" y="1542960"/>
            <a:ext cx="390996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ÐÐ°ÑÑÐ¸Ð½ÐºÐ¸ Ð¿Ð¾ Ð·Ð°Ð¿ÑÐ¾ÑÑ Ð±ÐµÐ·Ð¾Ð¿Ð°ÑÐ½Ð¾ÑÑÑ Ð² Ð¸Ð½ÑÐµÑÐ½ÐµÑÐµ ÐºÐ°ÑÑÐ¸Ð½ÐºÐ¸"/>
          <p:cNvPicPr/>
          <p:nvPr/>
        </p:nvPicPr>
        <p:blipFill>
          <a:blip r:embed="rId2"/>
          <a:stretch/>
        </p:blipFill>
        <p:spPr>
          <a:xfrm>
            <a:off x="628560" y="1962000"/>
            <a:ext cx="2766960" cy="2167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9A42-A093-42BB-9A10-81ED6DF6EB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304920" y="3809880"/>
            <a:ext cx="666720" cy="60984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314280" y="2162160"/>
            <a:ext cx="609480" cy="638280"/>
          </a:xfrm>
          <a:prstGeom prst="irregularSeal2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257040" y="523800"/>
            <a:ext cx="781200" cy="676440"/>
          </a:xfrm>
          <a:prstGeom prst="irregularSeal1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9960" y="780840"/>
            <a:ext cx="822960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Общаясь в Интернете, будьте дружелюбными с другими. Не пишите грубых слов! Вы можете нечаянно обидеть человека, читать грубости так же неприятно, как и слышать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омните что правила хорошего тона действуют везде, даже в виртуальном мир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нужно в ответ реагировать на грубых людей – просто прекратите общени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Вам угрожают в Интернете, не бойтесь сообщить об этом взрослы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 Никогда не рассказывайте о себе незнакомым людям в Интернете: где вы живете и учитесь, не сообщайте свой номер телефона и другую личную информацию, не выкладывайте фотографии. Не говорите никому о том, где работают Ваши родители и номера их телефонов. Эта информация может быть использована во вред вам и вашим родителям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Вы хотите поучаствовать в каком – ни будь конкурсе, где нужно указать свои данные, посоветуйтесь со взрослы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 Не ходите по подозрительным ссылкам, если Вы проследуете по этой ссылке, то в худшем случае можете подцепить серьезный вирус, а в лучшем – просто лишитесь своего аккаунта на сайт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07:54:40Z</dcterms:created>
  <dc:creator>Костиков Павел</dc:creator>
  <dc:description/>
  <dc:language>en-US</dc:language>
  <cp:lastModifiedBy>user</cp:lastModifiedBy>
  <dcterms:modified xsi:type="dcterms:W3CDTF">2020-05-21T23:37:20Z</dcterms:modified>
  <cp:revision>118</cp:revision>
  <dc:subject/>
  <dc:title>Презентация PowerPoint</dc:title>
</cp:coreProperties>
</file>