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545-61B2-4F4D-8325-4A4E34FA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77E-F52F-4A86-913D-DE861B74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159-38B9-462D-A77F-C17F9F1B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FF8-C8EC-46DE-B815-E153D0F3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07E-C2A9-4AD2-981F-AD573C17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FAA-5744-4294-8681-B005155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1E9-813C-4B2C-B7A7-92607B6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AD7-2B01-4AAF-A01B-88FFE4CA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196-FA24-41AA-8492-120DD9CB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57B-2911-422C-9A6C-C904A2C9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02A-6362-4A8A-B0A6-1330E7B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E80-7B57-416F-9222-991C845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7ECC-BC60-4702-950D-3526F1AF19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F50-B702-4F10-A6CF-5F2E85720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detionline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sockanc75@rkn.gov.ru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1828080" y="4149720"/>
            <a:ext cx="53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Управление Роскомнандзора по Забайкальскому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Чита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2543040" y="743040"/>
            <a:ext cx="4281480" cy="320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482-C385-4E73-B223-4263E97AE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71520" y="2066760"/>
            <a:ext cx="762120" cy="6764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43080" y="276120"/>
            <a:ext cx="628560" cy="77148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4784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Не верьте предложениям прочитать чужие СМС или посмотреть 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шокирующее видео». Вам предлагают нечто, нарушающее чье-то лич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якобы под большим секретом. В лучшем случае, захотев прочит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жие СМС можно лишиться денег на счету телефона (если нужно будет направи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С на короткий номер), в худшем случае на компьютере может поселиться вир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Фильтруйте электронные письма. Никогда  не отвечайте на сообщения от незнакомцев в Интернете и не отправляйте им СМС. Не открывай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дозрительные письма» и тем более никогда на них не отвечай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5800680" y="2990880"/>
            <a:ext cx="2333520" cy="1942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8335-B248-4159-9A9C-933C1A730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714240" y="52560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A941-F763-4D04-94CF-A25A61A19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695160" y="257040"/>
            <a:ext cx="7753680" cy="433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CCC-84F6-456C-8B5B-08A41C095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1085760" y="453960"/>
            <a:ext cx="7115400" cy="401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CDED-A12C-49D0-88D6-21D3CF2E8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3776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46040" y="416880"/>
            <a:ext cx="822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ы сами выкладываем в Сеть огром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чной информации, не подозре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 каким бедам это может при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спространение личной информации  может повлечь за собой неблагоприятные последствия для человека. Всегда нужно помнить, что злоумышленники, имея свободный доступ к информации о социальном статусе, семейном положении, могут воспользоваться ситуацией и совершить неправомерные посягательства на частную жизнь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485640" y="571680"/>
            <a:ext cx="1414440" cy="153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2"/>
          <a:stretch/>
        </p:blipFill>
        <p:spPr>
          <a:xfrm>
            <a:off x="6486480" y="3228840"/>
            <a:ext cx="2252880" cy="145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3"/>
          <a:stretch/>
        </p:blipFill>
        <p:spPr>
          <a:xfrm>
            <a:off x="723960" y="3371760"/>
            <a:ext cx="1562040" cy="1190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AFA-1CA1-429B-8D3F-31F0CE623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3044880" y="561960"/>
            <a:ext cx="5665680" cy="4000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28560" y="596880"/>
            <a:ext cx="339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Если Вы, пользуясь интернетом, оказались в непростой ситуации, Вы можете обратиться на Линию помощи «Дети Онлайн» по тел. 8 (800) 25-000-15 (звонок по России бесплатны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etionli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08040" y="2536920"/>
            <a:ext cx="363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Также можете воспользоваться горячей линией по приему сообщений о противоправном контенте в Интернете на сайте Фонда содействия развитию сети Интернет – «Дружественный Рунет» 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ww.friendlyrune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57A2-3B03-4FC2-B5DE-7375DE383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25520" y="158760"/>
            <a:ext cx="851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1520" y="126720"/>
            <a:ext cx="81374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Управление Федеральной службы по надзору в сфере связи, информацио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технологий и массовых коммуникаций по Забайкальскому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(Управление Роскомнадзора по Забайкальскому кра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Адрес: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ул. Подгорбунского, д. 9, г. Чита, 672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Телефон: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(3022) 21-70-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Факс: 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(3022) 21-70-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Times New Roman"/>
              </a:rPr>
              <a:t>e-mail</a:t>
            </a:r>
            <a:r>
              <a:rPr b="0" lang="de-DE" sz="1600" spc="-1" strike="noStrike">
                <a:solidFill>
                  <a:srgbClr val="1f497d"/>
                </a:solidFill>
                <a:latin typeface="Times New Roman"/>
              </a:rPr>
              <a:t>:            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sockanc75@rkn.g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Адрес сайта: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http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://75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rkn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gov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ru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Руководитель –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Исакин Денис Виктор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Отдел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по защите прав субъектов персональных данных, надзора в сфере массовых коммуникаций и информационных технологий – 21-70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н. – чт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08.00 – 17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т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08.00 – 15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ерерыв на обед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12.00 – 12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Сб., вс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выхо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9520" y="244080"/>
            <a:ext cx="822960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4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1790640" y="1924200"/>
            <a:ext cx="5824440" cy="234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60680" y="101268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F3E9-B8CB-4616-8128-A946BB233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379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нём есть игры и соцсети,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Фильмы, почта, курс валют.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Есть все новости планеты,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нём танцуют и пою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56200" y="1867320"/>
            <a:ext cx="242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н всех нас объединя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бо всём на свете зна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н кино тебе покаж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бо всём тебе расскажет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34200" y="3270240"/>
            <a:ext cx="25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етевая паутина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плела весь белый свет.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е пройти детишкам мимо.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Что же эт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57200" y="1981080"/>
            <a:ext cx="2300400" cy="22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2"/>
          <a:stretch/>
        </p:blipFill>
        <p:spPr>
          <a:xfrm>
            <a:off x="5924520" y="209520"/>
            <a:ext cx="2857680" cy="266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1BB-914B-4B0D-AF7B-6247F5B0D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9520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 – это безграничный мир информации, здесь ты найдешь много интересного и полезного для учебы. В интернете можно общаться со знакомыми и даже заводить новых друз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971640" y="1247760"/>
            <a:ext cx="734364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6264-96CD-4438-8C18-2F1DA9B8E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715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угрозы безопасности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ирусы и вредоносные программы (черви, трояны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анкционированный обмен музыкой, видео и другими файл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незаконн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влечь загрузку вредоносных програм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Грубияны и хулиганы (киберхулиганы, тролли, провокаторы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ослые и дети могут использовать интернет чтобы изводить или запугивать других людей (Кибербуллинг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286680" y="1324080"/>
            <a:ext cx="2000160" cy="155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702-C1CF-4540-BB11-DE0DD987F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Хищник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люди используют Интернет для того, чтобы заманить людей на личную встре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торжение в частную жиз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яя различные формы в Интернете, дети могут остави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иденциальные (личные) сведения о себе или своей семь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Опасный Контент (информац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можно столкнуться с запрещенной для распростра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ÐÐ°ÑÑÐ¸Ð½ÐºÐ¸ Ð¿Ð¾ Ð·Ð°Ð¿ÑÐ¾ÑÑ Ð¿ÐµÑÑÐ¾Ð½Ð°Ð»ÑÐ½ÑÐµ Ð´Ð°Ð½Ð½ÑÐµ Ð² ÑÐµÑÐ¸ ÐÐ½ÑÐµÑÐ½ÐµÑ ÐºÐ°ÑÑÐ¸Ð½ÐºÐ¸"/>
          <p:cNvPicPr/>
          <p:nvPr/>
        </p:nvPicPr>
        <p:blipFill>
          <a:blip r:embed="rId1"/>
          <a:stretch/>
        </p:blipFill>
        <p:spPr>
          <a:xfrm>
            <a:off x="6219720" y="1571760"/>
            <a:ext cx="2205000" cy="159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C2A-8906-4B13-9FF9-A7B1B6815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42920" y="723960"/>
            <a:ext cx="657360" cy="6570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23840" y="1724040"/>
            <a:ext cx="714240" cy="69516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0" y="3048120"/>
            <a:ext cx="819000" cy="7808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76120" y="466560"/>
            <a:ext cx="8229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равила безопасности в Интерн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гда спрашивайте взрослых о незнакомых и непонятных вещах, которые вы встречаете в Интернете: вы не знаете, какой пункт выбрать, на какую кнопку нажать, как закрыть программу или окно.  Взрослые расскажут вам, как поступить, что можно делать, а что н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. Чтобы не сталкиваться с неприятной информацией в Интернете, установите сист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ьтрации, или попросите сделать это взрослых. Система фильтрации  защитит 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тери денег и кражи паролей, а также будет блокировать большую часть рекламы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коряя загрузку страниц в Интерне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3. Не скачивайте и не открывайте неизвестные 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ли присланные незнакомцами файлы из Интернет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ы избежать заражения компьютера вирус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тановите на него специальную программу – антивирус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952960" y="2943360"/>
            <a:ext cx="2409840" cy="146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F280-22FC-410B-91C6-16AA9433F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66760" y="190440"/>
            <a:ext cx="69516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28600" y="2400480"/>
            <a:ext cx="52380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14280" y="41868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Если вы регистрируетесь на сайте, в социальной сети или электронной почт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думайте сложный пароль, состоящий из цифр, больши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аленьких букв и знаков. Чем сложнее парол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сложнее взломать ваш аккаун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ваш пароль можете знать только в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ому не сообщайте свои логины и пароли и н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кладывайте их в Интернете – относитесь к ним также бережн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и к ключам от кварти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Если хотите скачать картинку или мелодию, но вас просят отправить СМС – не спешите! Сначала проверьте этот номер в Интернете – безопасно ли отправлять на него СМС и не обманут ли вас. Сделать это можно на специальном сай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С на короткие номера могут стоить несколько сотен руб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ÐÐ°ÑÑÐ¸Ð½ÐºÐ¸ Ð¿Ð¾ Ð·Ð°Ð¿ÑÐ¾ÑÑ Ð¿Ð°ÑÐ¾Ð»Ð¸ Ð¸ Ð»Ð¾Ð³Ð¸Ð½Ñ ÐºÐ°ÑÑÐ¸Ð½ÐºÐ¸"/>
          <p:cNvPicPr/>
          <p:nvPr/>
        </p:nvPicPr>
        <p:blipFill>
          <a:blip r:embed="rId1"/>
          <a:stretch/>
        </p:blipFill>
        <p:spPr>
          <a:xfrm>
            <a:off x="6105600" y="857160"/>
            <a:ext cx="2581200" cy="152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86D-DE71-4759-9078-2AE6B2215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28600" y="219240"/>
            <a:ext cx="91440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715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Не встречайтесь без взрослых с людьми из Интернета вживу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многие люди рассказывают о себе неправд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ните, что под маской вашего ровесника может скрываться взрослый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еступными намерени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4038480" y="1542960"/>
            <a:ext cx="390996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ÐÐ°ÑÑÐ¸Ð½ÐºÐ¸ Ð¿Ð¾ Ð·Ð°Ð¿ÑÐ¾ÑÑ Ð±ÐµÐ·Ð¾Ð¿Ð°ÑÐ½Ð¾ÑÑÑ Ð² Ð¸Ð½ÑÐµÑÐ½ÐµÑÐµ ÐºÐ°ÑÑÐ¸Ð½ÐºÐ¸"/>
          <p:cNvPicPr/>
          <p:nvPr/>
        </p:nvPicPr>
        <p:blipFill>
          <a:blip r:embed="rId2"/>
          <a:stretch/>
        </p:blipFill>
        <p:spPr>
          <a:xfrm>
            <a:off x="628560" y="1962000"/>
            <a:ext cx="2766960" cy="216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3B2E-44B8-4C44-A140-B68A77235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04920" y="3809880"/>
            <a:ext cx="666720" cy="6098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4280" y="2162160"/>
            <a:ext cx="609480" cy="63828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57040" y="523800"/>
            <a:ext cx="781200" cy="6764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9960" y="7808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Общаясь в Интернете, будьте дружелюбными с другими. Не пишите грубых слов! Вы можете нечаянно обидеть человека, читать грубости так же неприятно, как и слыша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мните что правила хорошего тона действуют везде, даже в виртуальном мир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ужно в ответ реагировать на грубых людей – просто прекратите общ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ам угрожают в Интернете, не бойтесь сообщить об этом взрослы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Никогда не рассказывайте о себе незнакомым людям в Интернете: где вы живете и учитесь, не сообщайте свой номер телефона и другую личную информацию, не выкладывайте фотографии. Не говорите никому о том, где работают Ваши родители и номера их телефонов. Эта информация может быть использована во вред вам и вашим родителя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ы хотите поучаствовать в каком – ни будь конкурсе, где нужно указать свои данные, посоветуйтесь со взросл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Не ходите по подозрительным ссылкам, если Вы проследуете по этой ссылке, то в худшем случае можете подцепить серьезный вирус, а в лучшем – просто лишитесь своего аккаунта на сай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7:54:40Z</dcterms:created>
  <dc:creator>Костиков Павел</dc:creator>
  <dc:description/>
  <dc:language>en-US</dc:language>
  <cp:lastModifiedBy>user</cp:lastModifiedBy>
  <dcterms:modified xsi:type="dcterms:W3CDTF">2020-05-21T23:37:20Z</dcterms:modified>
  <cp:revision>118</cp:revision>
  <dc:subject/>
  <dc:title>Презентация PowerPoint</dc:title>
</cp:coreProperties>
</file>